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1.png" ContentType="image/png"/>
  <Override PartName="/ppt/media/image27.wmf" ContentType="image/x-wmf"/>
  <Override PartName="/ppt/media/image16.png" ContentType="image/png"/>
  <Override PartName="/ppt/media/image26.wmf" ContentType="image/x-wmf"/>
  <Override PartName="/ppt/media/image15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C399-52AD-4776-A66E-082C8B692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4963-0C09-4C5A-ACC7-1DF044CF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0C13-CB84-47E5-8F1D-F448ACBE0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3C25-90DB-4A4A-B085-1E7E3C3CD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0CF9-11A4-47BC-AF39-8E5417E0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1D52-C892-44A9-B3C9-23B85118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7405-7B62-42A7-B973-0C97AF1F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6F29-0680-4BEF-BCD9-F2E43574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7020-7AB0-4EBB-8467-77D7819E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D23B-6921-4FD2-83DE-B9A80E8F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6B41-99F3-4F7E-AE46-D13C38A6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F81F-7F0C-46F4-9914-B3D1526A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5636-87E9-4591-A33F-6FD026B43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0960" y="6248520"/>
            <a:ext cx="644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4 by Deitel &amp; Associates, Inc. and Pearson Education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utorial 20 – Enhanced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r Payment Calculat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pplication: Introducing Exception Handling</a:t>
            </a:r>
            <a:endParaRPr b="0" lang="en-US" sz="36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20.1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Test-Driving the Enhanced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ar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Payment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alculator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20.2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Introduction to Exception Hand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20.3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Throwing Exceptions in C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20.4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Handling Exceptions in C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20.5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C++ Stream Error States and Exce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20.6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Constructing the Enhanced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ar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Payment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alculator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20.7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Wrap-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0" y="0"/>
          <a:ext cx="6856560" cy="37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37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1238760" y="4054320"/>
            <a:ext cx="721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20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videByZeroExcep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ception class defin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981080" y="5715000"/>
            <a:ext cx="4067280" cy="4190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04920" y="44514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wing user defined objects, the application must include the class definition and the function should include a statement such as the one be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0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Handling Exceptions in C++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ists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lock and one or mo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loc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least on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lock must immediately follow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0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Handling Exceptions in C++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286000" y="2052720"/>
          <a:ext cx="6858000" cy="40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052720"/>
                    <a:ext cx="6858000" cy="40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565920" y="1257480"/>
            <a:ext cx="37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0.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atement examp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0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Handling Exceptions in C++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control and exce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exception caught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ro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lock terminates immediat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 searches f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lock with matching exception-par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’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unction returns the string description of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lock executes, program control goes to first executable statement after the las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 exceptions occ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lock terminates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locks are skip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0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Handling Exceptions in C++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hrowing an ex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tch block not able to process exception or can only partially process 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hieved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ro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mmand and no operand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exception is passed up to the next enclo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lock, if an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828800" y="3495600"/>
            <a:ext cx="401004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0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++ Stream Error States and Exception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ies of bits whose values indicate which stream I/O errors, if any, occur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il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when format errors occur (integer expected and character or symbol detec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unction returns true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il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31760" y="3867120"/>
            <a:ext cx="88790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0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++ Stream Error States and Excep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ring the error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’s member funct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e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ets error bits to “good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27080" y="3286080"/>
            <a:ext cx="88884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0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++ Stream Error States and Excep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cing an exception to be thr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++ stream objects do not throw exceptions by defau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ception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uses a stream object to throw an exception when the specified stream error bit is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14400" y="3753000"/>
            <a:ext cx="469584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75aff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275aff"/>
                </a:solidFill>
                <a:latin typeface="Times New Roman"/>
              </a:rPr>
              <a:t>Try to prompt the user for and store the car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275aff"/>
                </a:solidFill>
                <a:latin typeface="Times New Roman"/>
              </a:rPr>
              <a:t>Catch a stream input error</a:t>
            </a:r>
            <a:br>
              <a:rPr sz="2400"/>
            </a:br>
            <a:r>
              <a:rPr b="0" i="1" lang="en-US" sz="24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275aff"/>
                </a:solidFill>
                <a:latin typeface="Times New Roman"/>
              </a:rPr>
              <a:t>Reset the input stream state</a:t>
            </a:r>
            <a:br>
              <a:rPr sz="2400"/>
            </a:br>
            <a:r>
              <a:rPr b="0" i="1" lang="en-US" sz="24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275aff"/>
                </a:solidFill>
                <a:latin typeface="Times New Roman"/>
              </a:rPr>
              <a:t>Remove all characters from the input buffer</a:t>
            </a:r>
            <a:br>
              <a:rPr sz="2400"/>
            </a:br>
            <a:r>
              <a:rPr b="0" i="1" lang="en-US" sz="24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275aff"/>
                </a:solidFill>
                <a:latin typeface="Times New Roman"/>
              </a:rPr>
              <a:t>Display an error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75aff"/>
                </a:solidFill>
                <a:latin typeface="Times New Roman"/>
              </a:rPr>
              <a:t>While a stream input error has occur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75aff"/>
                </a:solidFill>
                <a:latin typeface="Times New Roman"/>
              </a:rPr>
              <a:t>Prompt the user for and store the down pa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75aff"/>
                </a:solidFill>
                <a:latin typeface="Times New Roman"/>
              </a:rPr>
              <a:t>Prompt the user for and store the annual interest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75aff"/>
                </a:solidFill>
                <a:latin typeface="Times New Roman"/>
              </a:rPr>
              <a:t>Calculate and display monthly payments for 2, 3, 4 and 5 yea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4000" y="1295280"/>
            <a:ext cx="73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0.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seudocode for enhanc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y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0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Enhanced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a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aym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0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Enhanced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a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aym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6173640" cy="3076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65200" y="1415880"/>
            <a:ext cx="371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0.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taining the user inp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3067200"/>
            <a:ext cx="21337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mpting the user for and inputting tw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362320" y="312372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62320" y="33526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3828960"/>
            <a:ext cx="22096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mpting the user for and inputting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38280" y="4133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2" dur="1" fill="hold"/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3" dur="1" fill="hold"/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Objective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tutorial, you will learn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exception handling to make your programs more robus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derstand what exceptions ar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locks to monitor code that may cause excep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locks to handle excep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ro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atement to rethrow an exception from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lock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0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Enhanced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a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aym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903400" y="2125800"/>
            <a:ext cx="6164280" cy="11332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os_base::fail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2240" y="1506600"/>
            <a:ext cx="511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0.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exception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eader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320" y="2362320"/>
            <a:ext cx="27432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exception&g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heade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26668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" dur="1" fill="hold"/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5" dur="1" fill="hold"/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14600" y="2066760"/>
            <a:ext cx="6230880" cy="3591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89360" y="1461960"/>
            <a:ext cx="898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0.1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…whi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loop repeats until the user enters a valid value at the first input promp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0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Enhanced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a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aym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2209680"/>
            <a:ext cx="198144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riable determines whether an error occurred during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33720" y="2590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320" y="3276720"/>
            <a:ext cx="22860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ginning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…whi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623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4419720"/>
            <a:ext cx="21337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eating the loop if an input error occu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0" y="4724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2" dur="1" fill="hold"/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3" dur="1" fill="hold"/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446200" y="2314440"/>
            <a:ext cx="6164280" cy="3095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16160" y="1582560"/>
            <a:ext cx="816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0.1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ng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atement containing code that might throw an excep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0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Enhanced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a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aym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3006720"/>
            <a:ext cx="21337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ginning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3159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429000"/>
            <a:ext cx="175284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us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o throw exceptions when errors occ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905120" y="3657240"/>
            <a:ext cx="1904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4343400"/>
            <a:ext cx="16765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dicating that no errors occu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28800" y="46483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5029200"/>
            <a:ext cx="19051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ing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133720" y="4952520"/>
            <a:ext cx="1447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8" dur="1" fill="hold"/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9" dur="1" fill="hold"/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0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Enhanced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a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aym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674800" y="3133800"/>
            <a:ext cx="6164280" cy="1457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40080" y="1995480"/>
            <a:ext cx="367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0.1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ng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o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3505320"/>
            <a:ext cx="213336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ing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3828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0" dur="1" fill="hold"/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1" dur="1" fill="hold"/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0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Enhanced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a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aym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32240" y="2133720"/>
            <a:ext cx="6230880" cy="19904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40440" y="1447920"/>
            <a:ext cx="425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0.1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an error mess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2819520"/>
            <a:ext cx="21337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earing the error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2971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3276720"/>
            <a:ext cx="19810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moving characters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209680" y="3504960"/>
            <a:ext cx="16765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0" dur="1" fill="hold"/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31" dur="1" fill="hold"/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0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Enhanced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a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aym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684520" y="3033720"/>
            <a:ext cx="6230880" cy="1657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94280" y="1852560"/>
            <a:ext cx="699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0.1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ing the stream error state and removing the user inp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the input buff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3429000"/>
            <a:ext cx="16765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dicating that an error occu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28800" y="37339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4191120"/>
            <a:ext cx="13716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ing an error 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523880" y="4191120"/>
            <a:ext cx="2514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0" dur="1" fill="hold"/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51" dur="1" fill="hold"/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0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Enhanced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a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aym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766880" y="3281400"/>
            <a:ext cx="5610240" cy="1162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39120" y="1766880"/>
            <a:ext cx="851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0.1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message displayed when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os_base::failu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xception occu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0" y="0"/>
          <a:ext cx="6856560" cy="626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62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6781680" y="5335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rPayment.cpp (1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57800" y="1371600"/>
            <a:ext cx="36576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exception&g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heade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571640" y="1523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629400" y="4952880"/>
            <a:ext cx="23623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orOccurr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s true if an input error occu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866920" y="5257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952880" y="5791320"/>
            <a:ext cx="38862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ores invalid input from the input 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362320" y="59752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8" dur="1" fill="hold"/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79" dur="1" fill="hold"/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0" y="0"/>
          <a:ext cx="6856560" cy="425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6781680" y="5335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rPayment.cpp (2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415800"/>
            <a:ext cx="35053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eats until a valid car price is ent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838080" y="56844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62520" y="1143000"/>
            <a:ext cx="17524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gin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1219320" y="1295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1752480"/>
            <a:ext cx="25909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us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o throw exceptions when errors occ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4191120" y="20383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2666880"/>
            <a:ext cx="33526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mpt the user for and input car p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962520" y="28605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72200" y="3311640"/>
            <a:ext cx="27432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dicate that no error occu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638680" y="3505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90920" y="3809880"/>
            <a:ext cx="144756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1904760" y="3962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0" dur="1" fill="hold"/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31" dur="1" fill="hold"/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0" y="0"/>
          <a:ext cx="6856560" cy="400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6629400" y="27432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rPayment.cpp (3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05520" y="76320"/>
            <a:ext cx="228600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gi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block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os_base::failu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xce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4114800" y="22824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00800" y="1295280"/>
            <a:ext cx="18288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ear the error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3809520" y="609120"/>
            <a:ext cx="2590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00800" y="685800"/>
            <a:ext cx="20574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move all characters from the input 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733920" y="990720"/>
            <a:ext cx="2666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24480" y="1676520"/>
            <a:ext cx="266724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dicate that an error occu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2971440" y="1752480"/>
            <a:ext cx="33526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705720" y="2092320"/>
            <a:ext cx="22860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 an error 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866920" y="22860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10080" y="3311640"/>
            <a:ext cx="35053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eat if an error occurred during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876560" y="3463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2" dur="1" fill="hold"/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83" dur="1" fill="hold"/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0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Enhanced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a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aym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98320" y="2395440"/>
            <a:ext cx="794556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0" y="0"/>
          <a:ext cx="6856560" cy="37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37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6781680" y="5335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rPayment.cpp (4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0" y="0"/>
          <a:ext cx="6856560" cy="50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6781680" y="5335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rPayment.cpp (5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0" y="0"/>
          <a:ext cx="6856560" cy="525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6781680" y="5335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rPayment.cpp (6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0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Enhanced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a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aym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66880" y="3224160"/>
            <a:ext cx="5610240" cy="1276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9240" y="2004840"/>
            <a:ext cx="799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0.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 the completed Enhanc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y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0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Enhanced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a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aym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66880" y="3110040"/>
            <a:ext cx="5610240" cy="1504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68560" y="1943280"/>
            <a:ext cx="831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0.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ing a non-numeric character at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ter the car pric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mp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0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Enhanced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a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aym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66880" y="2938320"/>
            <a:ext cx="5610240" cy="1847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65920" y="2004840"/>
            <a:ext cx="694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0.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the monthly car payments after input is correc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0.2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troduction to Exception Handling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Perform a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If the preceding task did not execute correc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Perform error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Perform next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If the preceding task did not execute correct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Perform error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5aff"/>
                </a:solidFill>
                <a:latin typeface="Times New Roman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2200" y="1263600"/>
            <a:ext cx="699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0.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seudocode for performing tasks without exception handl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0.2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troduction to Exception Handling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ion Hand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rowing an 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eption handl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when application detects an 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exception handler present, application catches exception and executes exception hand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caught 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xception that does not have an exception hand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uses the application to termin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0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hrowing exceptions in C++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w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rmally specify one oper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w operand can be of any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nd can also be an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ed exception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ion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++ Standard Librar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exceptions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05120" y="2895480"/>
            <a:ext cx="2514600" cy="314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447920" y="4019400"/>
            <a:ext cx="6602400" cy="4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20:09:42Z</dcterms:created>
  <dc:creator>Eric Winokur</dc:creator>
  <dc:description/>
  <dc:language>en-US</dc:language>
  <cp:lastModifiedBy>Pearson Education</cp:lastModifiedBy>
  <dcterms:modified xsi:type="dcterms:W3CDTF">2004-10-11T14:12:35Z</dcterms:modified>
  <cp:revision>131</cp:revision>
  <dc:subject/>
  <dc:title>Tutorial 20 – Enhanced Car Payment Calculator Application: Introducing Exception Handling</dc:title>
</cp:coreProperties>
</file>